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405-1F81-4F0A-8445-FEEE0555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67E-C335-410F-B7A1-48635E6D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46B-0254-4226-A1AA-CEFFB972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0D2-4E59-47A6-990E-FBA515E8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D221-0E9D-401C-9A80-14FB15BF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DF4A-2D26-432E-B5F5-C6392B12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6FAC-118A-4068-B06E-54976AC7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B47-6812-4E86-A8C6-02FF9CE9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06F-0C79-4DBB-B3B1-9FFEEF47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B335-3FF7-4A90-AC80-A5932D16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CB6-6C6A-417E-82AF-416D5344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4F0-413F-4EC7-A81F-BAECF46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5E76-6470-40B4-8F95-A30EEF8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59C4-3392-4E1F-B1AE-E7B10C0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D837-D5C1-4CB3-90A5-73E0DB0C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5604-FD12-4FAC-9848-D6FBA691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2247-37A7-49B1-83CE-B437DEC3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168-A772-4865-8DDA-8F87E39E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EE7-948E-44DB-A103-079E11D4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6F5-B9F5-4E74-91C2-BF0F2602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9AD-0F3B-4AFF-A270-0930FC5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701-10C9-4733-809D-DE1D30D0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24E-88AD-4320-896F-02464DC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B9F-FD4F-499E-B438-AE4FBA21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7E2-BFD0-4330-8859-6B9F39778E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26C9-090A-4AB7-8036-883A8786EFC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RUMOSUL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5652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9T11:06:49Z</dcterms:modified>
  <cp:revision>38</cp:revision>
  <dc:subject/>
  <dc:title>SALARIUL</dc:title>
</cp:coreProperties>
</file>